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A6A3-781D-4AA0-8E78-C6A5258D8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7D1D-B079-4F16-B53B-E61E7AA19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4C5298-E6FE-4285-95B3-C8440D39F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763C8E9-8EA5-42D3-870A-74B28E87C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D14FCB-0D7B-4B66-8114-24BBDB9CC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6943AD-CE17-44C6-97B8-D6C7AF73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3019A9-4216-4043-A4B1-54E69DC2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EF4381-CFE0-40D4-BD98-2171559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1E0331-E6D6-479D-A528-A4B07334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9FDFF8-76AA-4FDC-A3E3-A46283674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ED6426-75E5-4A04-B4EA-45E7F9AF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C737-53B4-4288-8280-56D52297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2793-AE6B-49AC-AAB0-1F227344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F9FE-F7CD-43E0-BDB6-973FCDFBB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3F3-4631-435C-B1C1-4666C5663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9EEF7D-B24F-47D4-9BC0-DCBC342B4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089EE6-C546-418F-A45C-1CF88CF08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623E2F-3835-4F5F-BD4B-D07A269E9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8889-EDD8-4537-BD3A-8A296698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759283-BAAE-4B45-A4F2-5C7AE38C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B5EA23-D92E-4D65-B221-2B3D0888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44505C-24AC-4EF9-A7AC-B3529D45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3B101F-E49C-41EE-99A1-4E4B8D67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AD467C-03BB-4C52-BC6C-1213A350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41D5C4-C7EB-4410-9F4F-B5BAFD5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45B9A2D-802D-4491-87AC-BCFD2377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8C131E-6F76-4C6D-93E8-BF027D572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69ED83-B241-4188-8ADA-D34114CD7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A592F-30D7-4E29-A3AC-FB42A29E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BE70-A38E-482C-9730-6B45FA61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CDA4E3-9DAD-4B73-8A10-13FAF240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A3437B-7EF2-4EA1-B7D3-71FD0D51E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2C6C6-1AC3-485F-86F8-2BD8F3A8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D1370B-9E7E-429D-884F-B80FAEE7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C32099-B985-49C4-BC95-BBFA40DF6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BA406-0D45-4C15-BB05-6601E3D7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0B7425B-25B4-43C7-B5E8-4B81F4FA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2470806-F045-498E-9A5C-7551E7420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FAF57F-130D-4E1F-BD50-284D425C5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64A82D2-CBCE-4848-996F-9A380254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850-2A9F-49DC-8F8F-B2D541C8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02511C-6AFF-4FAF-A8F1-F82E7DF84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6B2529-45BC-4FA1-BA10-B8BE1035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60233B-1260-4976-8490-D70A4B052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F923BC-4CF4-470B-9F35-1F736379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E5675E7-2AD2-4380-A074-D260DD51E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0827E5-3EAF-471E-BD8A-767D162E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FF671F-7753-4C04-8E40-FFD87B02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10019A1-6B72-4772-871F-8378C05BF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5593ECF-C9DC-4A91-B51E-C54B80816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79C0C6-2606-41F5-BFBC-9227788F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BDA-760C-44A6-8C10-5776490A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75C0B3-114F-4370-95C0-6A38AEEB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6F90BC-C3A4-4673-94E6-D07393A5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5102D-0084-4E67-8771-430A4EE1D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C70F46-4D99-45FD-8591-57000DAC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8FD404-CC95-458A-A945-9B0F69339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33C7207-4727-4822-B81C-2E1F9BFB7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DC300D-18A2-4DD2-85C1-90FB676C9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6680D8-5A39-457E-BD5F-1764E649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A8483AF-F0C0-435A-96A7-5AE0B5A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A7E51C-A16C-48F5-A0D4-1657E942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FCC-ACAF-452E-93AD-3F6F3ADF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B70257-6ABB-4470-9917-2E9E918D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987C445-5ADC-4642-995F-1C0D15C1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A7C98A-1E2D-4C6B-8143-78D5FE78F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186361F-0A48-45F9-B8C0-F6C351F38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6867B06-769A-4390-86CB-D2A5A889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530702-DC88-4D72-B900-1DEF3F146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F4F0006-6725-4FB3-933B-39ACA697D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511E250-3988-424D-B80E-C6FFA8E6F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0BC370-F9C3-4C9E-9B58-2E46DD322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8E9D98-C9CC-4994-B13D-720363BD4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32E6-EC3B-4EFA-A75C-329035A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FD13C0C-9C7B-470B-8DBD-49332179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B1B8CBA-BA27-4301-B07B-056222D0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6E1D1F-35AC-48DD-8319-A766EEFB8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35F693B-27C0-477A-BB1A-5B402139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42147C-AFB7-4A85-97A0-0885265BA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DCCD48-42C3-48EA-A540-5582446B3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337C6FA-2CA5-4F0C-BD03-366CDE39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6212B-5BBF-4DC5-98E0-BE671D6F8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D69BC1-2856-4089-BDC0-51400111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F592F3-5723-4B1C-8813-7C13F50F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98DC2-D68E-4F2F-A5BF-108E3B10B24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A2CF-01C8-4AB3-98A2-BD3CE6BF54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DCFB7-FA61-4C17-9D7F-429670F26DA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F28D0-B806-4DF0-8341-994F4E764363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7CF9-3EB6-4270-87C3-A54A0F6845F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870B-13E4-4CDD-A2BC-D921545751F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1A945-DC2F-44CE-87CD-794EDE407E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1" name="TextBox 8"/>
          <p:cNvSpPr/>
          <p:nvPr/>
        </p:nvSpPr>
        <p:spPr>
          <a:xfrm>
            <a:off x="236160" y="2570040"/>
            <a:ext cx="105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2" name="TextBox 9"/>
          <p:cNvSpPr/>
          <p:nvPr/>
        </p:nvSpPr>
        <p:spPr>
          <a:xfrm>
            <a:off x="2158920" y="2548080"/>
            <a:ext cx="1421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3" name="TextBox 10"/>
          <p:cNvSpPr/>
          <p:nvPr/>
        </p:nvSpPr>
        <p:spPr>
          <a:xfrm>
            <a:off x="4227480" y="2536920"/>
            <a:ext cx="3318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a mayonnais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4" name="TextBox 11"/>
          <p:cNvSpPr/>
          <p:nvPr/>
        </p:nvSpPr>
        <p:spPr>
          <a:xfrm>
            <a:off x="4636440" y="3328920"/>
            <a:ext cx="3531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5" name="TextBox 12"/>
          <p:cNvSpPr/>
          <p:nvPr/>
        </p:nvSpPr>
        <p:spPr>
          <a:xfrm>
            <a:off x="1851120" y="254808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6" name="TextBox 13"/>
          <p:cNvSpPr/>
          <p:nvPr/>
        </p:nvSpPr>
        <p:spPr>
          <a:xfrm>
            <a:off x="125820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3516840" y="254808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848160" y="5010120"/>
            <a:ext cx="74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’en mettez pas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99" name="TextBox 16"/>
          <p:cNvSpPr/>
          <p:nvPr/>
        </p:nvSpPr>
        <p:spPr>
          <a:xfrm>
            <a:off x="2693520" y="4481640"/>
            <a:ext cx="1832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Correct??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6" dur="2000" fill="hold"/>
                                        <p:tgtEl>
                                          <p:spTgt spid="39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3398E-006 1.73028E-006 L 0.06758 0.00023 E">
                                      <p:cBhvr>
                                        <p:cTn id="309" dur="2000" fill="hold"/>
                                        <p:tgtEl>
                                          <p:spTgt spid="3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2 2.22068E-007 L 0.05421 2.22068E-007 E">
                                      <p:cBhvr>
                                        <p:cTn id="313" dur="2000" fill="hold"/>
                                        <p:tgtEl>
                                          <p:spTgt spid="3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85059E-006 -4.92019E-006 L 0.04413 -0.12352 E">
                                      <p:cBhvr>
                                        <p:cTn id="323" dur="2000" fill="hold"/>
                                        <p:tgtEl>
                                          <p:spTgt spid="3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1" name="TextBox 3"/>
          <p:cNvSpPr/>
          <p:nvPr/>
        </p:nvSpPr>
        <p:spPr>
          <a:xfrm>
            <a:off x="775800" y="2570040"/>
            <a:ext cx="805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2" name="TextBox 4"/>
          <p:cNvSpPr/>
          <p:nvPr/>
        </p:nvSpPr>
        <p:spPr>
          <a:xfrm>
            <a:off x="1589760" y="2570040"/>
            <a:ext cx="96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eu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3" name="TextBox 5"/>
          <p:cNvSpPr/>
          <p:nvPr/>
        </p:nvSpPr>
        <p:spPr>
          <a:xfrm>
            <a:off x="4121640" y="2570040"/>
            <a:ext cx="228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u fromag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4" name="TextBox 6"/>
          <p:cNvSpPr/>
          <p:nvPr/>
        </p:nvSpPr>
        <p:spPr>
          <a:xfrm>
            <a:off x="4564080" y="3328920"/>
            <a:ext cx="374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260604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6" name="TextBox 10"/>
          <p:cNvSpPr/>
          <p:nvPr/>
        </p:nvSpPr>
        <p:spPr>
          <a:xfrm>
            <a:off x="2669760" y="258300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07" name="TextBox 11"/>
          <p:cNvSpPr/>
          <p:nvPr/>
        </p:nvSpPr>
        <p:spPr>
          <a:xfrm>
            <a:off x="962640" y="5292720"/>
            <a:ext cx="721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en mettr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0" dur="2000" fill="hold"/>
                                        <p:tgtEl>
                                          <p:spTgt spid="4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4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9" dur="2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53" dur="2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57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35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35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9069 0 E">
                                      <p:cBhvr>
                                        <p:cTn id="363" dur="2000" fill="hold"/>
                                        <p:tgtEl>
                                          <p:spTgt spid="4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287E-006 1.30928E-006 L 0.02363 -0.11358 E">
                                      <p:cBhvr>
                                        <p:cTn id="373" dur="2000" fill="hold"/>
                                        <p:tgtEl>
                                          <p:spTgt spid="4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09" name="TextBox 3"/>
          <p:cNvSpPr/>
          <p:nvPr/>
        </p:nvSpPr>
        <p:spPr>
          <a:xfrm>
            <a:off x="212760" y="2570040"/>
            <a:ext cx="30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3931560" y="2570040"/>
            <a:ext cx="151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eulent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550960" y="3333600"/>
            <a:ext cx="2190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e l’anan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2" name="TextBox 6"/>
          <p:cNvSpPr/>
          <p:nvPr/>
        </p:nvSpPr>
        <p:spPr>
          <a:xfrm>
            <a:off x="4545360" y="3328920"/>
            <a:ext cx="4670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3" name="TextBox 7"/>
          <p:cNvSpPr/>
          <p:nvPr/>
        </p:nvSpPr>
        <p:spPr>
          <a:xfrm>
            <a:off x="607608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4" name="TextBox 8"/>
          <p:cNvSpPr/>
          <p:nvPr/>
        </p:nvSpPr>
        <p:spPr>
          <a:xfrm>
            <a:off x="319248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5" name="TextBox 9"/>
          <p:cNvSpPr/>
          <p:nvPr/>
        </p:nvSpPr>
        <p:spPr>
          <a:xfrm>
            <a:off x="5304240" y="2570040"/>
            <a:ext cx="81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6" name="TextBox 12"/>
          <p:cNvSpPr/>
          <p:nvPr/>
        </p:nvSpPr>
        <p:spPr>
          <a:xfrm>
            <a:off x="6055920" y="2570040"/>
            <a:ext cx="1398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17" name="TextBox 13"/>
          <p:cNvSpPr/>
          <p:nvPr/>
        </p:nvSpPr>
        <p:spPr>
          <a:xfrm>
            <a:off x="752400" y="5292720"/>
            <a:ext cx="76392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en mettre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5" dur="2000" fill="hold"/>
                                        <p:tgtEl>
                                          <p:spTgt spid="4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9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4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98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22,-8)"/>
                                      </p:to>
                                    </p:set>
                                    <p:set>
                                      <p:cBhvr>
                                        <p:cTn id="40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09069 0 E">
                                      <p:cBhvr>
                                        <p:cTn id="408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43989E-006 3.678E-007 L -0.24635 0.00162 E">
                                      <p:cBhvr>
                                        <p:cTn id="418" dur="2000" fill="hold"/>
                                        <p:tgtEl>
                                          <p:spTgt spid="4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at does “en” mean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en” means “some”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What do we do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llow the same steps as when we did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stead of 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getting rid of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he sentence, we’ll be looking to get rid of the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our sentenc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S TOMATES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is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in front of your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last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3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S TOMATES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VERB</a:t>
            </a:r>
            <a:r>
              <a:rPr b="1" lang="fr-CA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is the verb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in front of your verb. DON’T FORGET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NE + VOWEL = N’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n’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3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3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 LA LAITUE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the verbs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s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   et   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METTRE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 YOUR VERBS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mettr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4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4" dur="500"/>
                                        <p:tgtEl>
                                          <p:spTgt spid="3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3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we replacing in this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72720" indent="-327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Replacing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DE LA LAITUE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</a:t>
            </a:r>
            <a:r>
              <a:rPr b="1" lang="fr-CA" sz="22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1" lang="fr-CA" sz="2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What are the verbs in the sentence?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2" marL="972720" indent="-32796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Verbs: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VEUT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   et    </a:t>
            </a:r>
            <a:r>
              <a:rPr b="1" lang="fr-CA" sz="2000" spc="-1" strike="noStrike" u="sng">
                <a:solidFill>
                  <a:srgbClr val="ffffff"/>
                </a:solidFill>
                <a:uFillTx/>
                <a:latin typeface="Book Antiqua"/>
              </a:rPr>
              <a:t>METTRE</a:t>
            </a:r>
            <a:r>
              <a:rPr b="0" lang="fr-CA" sz="2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 THE VERBS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44400" indent="-31608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ne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veut </a:t>
            </a:r>
            <a:r>
              <a:rPr b="1" i="1" lang="fr-CA" sz="3000" spc="-1" strike="noStrike">
                <a:solidFill>
                  <a:srgbClr val="ffffff"/>
                </a:solidFill>
                <a:latin typeface="Book Antiqua"/>
              </a:rPr>
              <a:t>pas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fr-CA" sz="3000" spc="-1" strike="noStrike" u="sng">
                <a:solidFill>
                  <a:srgbClr val="ffffff"/>
                </a:solidFill>
                <a:uFillTx/>
                <a:latin typeface="Book Antiqua"/>
              </a:rPr>
              <a:t>en</a:t>
            </a: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 mettr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22200" indent="-322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6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6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1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6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10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1000"/>
                                        <p:tgtEl>
                                          <p:spTgt spid="3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518760" y="1882800"/>
            <a:ext cx="820116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</a:t>
            </a:r>
            <a:br>
              <a:rPr sz="2200"/>
            </a:br>
            <a:r>
              <a:rPr b="1" lang="en-US" sz="2200" spc="-1" strike="noStrike" u="sng">
                <a:solidFill>
                  <a:srgbClr val="ffffff"/>
                </a:solidFill>
                <a:uFillTx/>
                <a:latin typeface="Book Antiqua"/>
              </a:rPr>
              <a:t>ONE will end in –er, -ir, or –r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3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8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1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9"/>
          <p:cNvSpPr/>
          <p:nvPr/>
        </p:nvSpPr>
        <p:spPr>
          <a:xfrm>
            <a:off x="1631160" y="2570040"/>
            <a:ext cx="628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5" name="TextBox 10"/>
          <p:cNvSpPr/>
          <p:nvPr/>
        </p:nvSpPr>
        <p:spPr>
          <a:xfrm>
            <a:off x="2286360" y="2570040"/>
            <a:ext cx="1072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6" name="TextBox 11"/>
          <p:cNvSpPr/>
          <p:nvPr/>
        </p:nvSpPr>
        <p:spPr>
          <a:xfrm>
            <a:off x="3432960" y="2570040"/>
            <a:ext cx="219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du ketchup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TextBox 12"/>
          <p:cNvSpPr/>
          <p:nvPr/>
        </p:nvSpPr>
        <p:spPr>
          <a:xfrm>
            <a:off x="5517720" y="2570040"/>
            <a:ext cx="251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8" name="TextBox 13"/>
          <p:cNvSpPr/>
          <p:nvPr/>
        </p:nvSpPr>
        <p:spPr>
          <a:xfrm>
            <a:off x="2025000" y="2570040"/>
            <a:ext cx="63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n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9" name="TextBox 14"/>
          <p:cNvSpPr/>
          <p:nvPr/>
        </p:nvSpPr>
        <p:spPr>
          <a:xfrm>
            <a:off x="2271240" y="5292720"/>
            <a:ext cx="4601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en mets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6" dur="2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48089E-006 -2.64168E-006 L -0.04256 -2.64168E-006 E">
                                      <p:cBhvr>
                                        <p:cTn id="270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93398E-006 1.73028E-006 L 0.06758 0.00023 E">
                                      <p:cBhvr>
                                        <p:cTn id="274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021 0.00046 L -0.17964 0.00046 E">
                                      <p:cBhvr>
                                        <p:cTn id="284" dur="2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4-12-01T16:07:09Z</cp:lastPrinted>
  <dcterms:modified xsi:type="dcterms:W3CDTF">2014-12-02T17:30:52Z</dcterms:modified>
  <cp:revision>30</cp:revision>
  <dc:subject/>
  <dc:title>Le pronom « en »</dc:title>
</cp:coreProperties>
</file>